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7FA-3E75-4DC6-80E7-9EDAA1B024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E813-B802-40E2-AA0D-CE26870584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952-0C25-4309-81B3-7A7FE131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99D-5A4C-497E-AC94-AB2F008A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700-91C5-44CF-8DFF-40F24A3A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D5F-E585-4CD3-8FAD-FA7261D2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AC8-65C6-4B68-A482-4FE21BE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51B-11E8-4369-8561-15FB431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556-1625-4021-9958-2080EADF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FE0-642D-43A3-BFE2-970CB824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289-6048-4C40-B06D-9C866AAA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F39-6937-436C-A3A8-B85C058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6D7-ADC5-4234-8AB6-2D99A00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FED-6EAD-427D-9705-215826B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672-72EB-4731-AC01-6DCBEDA38F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Imagen3.jpg"/>
          <p:cNvPicPr/>
          <p:nvPr/>
        </p:nvPicPr>
        <p:blipFill>
          <a:blip r:embed="rId1"/>
          <a:stretch/>
        </p:blipFill>
        <p:spPr>
          <a:xfrm>
            <a:off x="770040" y="0"/>
            <a:ext cx="76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rma"/>
          <p:cNvPicPr/>
          <p:nvPr/>
        </p:nvPicPr>
        <p:blipFill>
          <a:blip r:embed="rId1"/>
          <a:stretch/>
        </p:blipFill>
        <p:spPr>
          <a:xfrm>
            <a:off x="1676520" y="380880"/>
            <a:ext cx="614664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6"/>
          <p:cNvSpPr/>
          <p:nvPr/>
        </p:nvSpPr>
        <p:spPr>
          <a:xfrm>
            <a:off x="1377000" y="5719680"/>
            <a:ext cx="6759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NH2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resto de 42 A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igestión de Proteinas</a:t>
            </a:r>
            <a:br>
              <a:rPr sz="2800"/>
            </a:br>
            <a:r>
              <a:rPr b="1" lang="es-ES" sz="2800" spc="-1" strike="noStrike">
                <a:solidFill>
                  <a:srgbClr val="383cea"/>
                </a:solidFill>
                <a:latin typeface="Arial"/>
              </a:rPr>
              <a:t>I) En el estóm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8"/>
          <p:cNvGrpSpPr/>
          <p:nvPr/>
        </p:nvGrpSpPr>
        <p:grpSpPr>
          <a:xfrm>
            <a:off x="1547640" y="5229360"/>
            <a:ext cx="4710960" cy="393120"/>
            <a:chOff x="1547640" y="5229360"/>
            <a:chExt cx="4710960" cy="393120"/>
          </a:xfrm>
        </p:grpSpPr>
        <p:sp>
          <p:nvSpPr>
            <p:cNvPr id="122" name="Rectangle 7"/>
            <p:cNvSpPr/>
            <p:nvPr/>
          </p:nvSpPr>
          <p:spPr>
            <a:xfrm>
              <a:off x="1547640" y="5229360"/>
              <a:ext cx="140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8080"/>
                  </a:solidFill>
                  <a:latin typeface="Arial"/>
                </a:rPr>
                <a:t>Proenzima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4500720" y="5256360"/>
              <a:ext cx="175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Enzima activ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3205080" y="5229360"/>
              <a:ext cx="132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26" name="Oval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8" name="Oval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41" name="Oval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7" name="Oval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ST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élulas Parieta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élulas Principa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o actúa la pepsina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UA SOBRE GRUPOS AMINOS DE Aa ARO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2637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4930920" y="2565360"/>
            <a:ext cx="726480" cy="144360"/>
            <a:chOff x="4930920" y="2565360"/>
            <a:chExt cx="726480" cy="144360"/>
          </a:xfrm>
        </p:grpSpPr>
        <p:sp>
          <p:nvSpPr>
            <p:cNvPr id="166" name="Line 6"/>
            <p:cNvSpPr/>
            <p:nvPr/>
          </p:nvSpPr>
          <p:spPr>
            <a:xfrm>
              <a:off x="4938480" y="270972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930920" y="2565360"/>
              <a:ext cx="71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1"/>
          <p:cNvSpPr/>
          <p:nvPr/>
        </p:nvSpPr>
        <p:spPr>
          <a:xfrm rot="16200000">
            <a:off x="3347280" y="4796280"/>
            <a:ext cx="1297080" cy="2890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"/>
          <p:cNvSpPr/>
          <p:nvPr/>
        </p:nvSpPr>
        <p:spPr>
          <a:xfrm rot="5017800">
            <a:off x="2302200" y="4766400"/>
            <a:ext cx="1373040" cy="276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PLASM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 + P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2411280" y="5229360"/>
            <a:ext cx="2160720" cy="252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embrana apic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élula Pariet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stam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col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tr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492360" y="4149720"/>
            <a:ext cx="288000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ncreozimina 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ecistoquin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611280" y="4365720"/>
            <a:ext cx="216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164360" y="443700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) En Duodeno e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ri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3300"/>
                </a:solidFill>
                <a:uFillTx/>
                <a:latin typeface="Arial"/>
              </a:rPr>
              <a:t>Tripsin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Quimotripsinóge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carboxipeptidasas A y B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eroquinas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Proelastas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uimotripsin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rboxipeptidasas A y B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156360" y="60930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Elastas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ACTIV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IPO DE ENLACES PEPTIDICOS HIDROLIZAN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psina (endopeptidasa) : grupos carbonilo de      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motripsina (endopeptidasa) grupos carboxilo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95280" y="3645000"/>
            <a:ext cx="18730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LULAS (intestinales, renales, hepáticas, etc.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124000" y="2421000"/>
            <a:ext cx="27352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Mediado Activ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484360" y="5805360"/>
            <a:ext cx="24480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ón facilitad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076720" y="1628640"/>
            <a:ext cx="4067280" cy="414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neutros pequeñ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lanina,se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a. neutros y arom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isoleucina,tiros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bás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rgin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no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l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Glutamat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340000" y="3357720"/>
            <a:ext cx="136836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305080" y="4795560"/>
            <a:ext cx="1220760" cy="79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859280" y="1557360"/>
            <a:ext cx="289080" cy="410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los aminoácidos en el período post-pand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tamina y Asparragina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testino y r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de cadena ramificada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úsculo 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ayor parte de los aminoácidos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ONDO COMUN DE AMINOA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gestión de Proteínas exóg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inoácidos sintetizados en la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LILLA 8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ROTEINAS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gestión de proteínas  y absorción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ABOLISMO: - Degradación de los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bolismo del nit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ías metabólicas del amoní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bolismo del esqueleto carb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iosíntesis de aminas bióg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sínte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teínas, Compuestos no proteic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btenc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67280" y="292428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58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aminoácidos deben degradar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995640" y="450864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03280" y="5373720"/>
            <a:ext cx="6337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1º) Pérdida del Grupo Amin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2º) Degradación de la cadena carbonad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5720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acción General de Transaminació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tra001"/>
          <p:cNvPicPr/>
          <p:nvPr/>
        </p:nvPicPr>
        <p:blipFill>
          <a:blip r:embed="rId1"/>
          <a:stretch/>
        </p:blipFill>
        <p:spPr>
          <a:xfrm>
            <a:off x="611280" y="1716120"/>
            <a:ext cx="74167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8"/>
          <p:cNvSpPr/>
          <p:nvPr/>
        </p:nvSpPr>
        <p:spPr>
          <a:xfrm>
            <a:off x="1908000" y="227664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43280" y="227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116000" y="907920"/>
            <a:ext cx="5256360" cy="225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P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nina                       Cetoglutar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                      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1258920" y="3716280"/>
            <a:ext cx="5256360" cy="225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O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partato                          Cetoglutar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xalacetato                        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2484360" y="162864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2987640" y="4365720"/>
            <a:ext cx="287280" cy="143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 rot="10800000">
            <a:off x="2844720" y="155736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9"/>
          <p:cNvSpPr/>
          <p:nvPr/>
        </p:nvSpPr>
        <p:spPr>
          <a:xfrm rot="11090400">
            <a:off x="3348000" y="4292640"/>
            <a:ext cx="287280" cy="1440000"/>
          </a:xfrm>
          <a:custGeom>
            <a:avLst/>
            <a:gdLst>
              <a:gd name="textAreaLeft" fmla="*/ 38520 w 287280"/>
              <a:gd name="textAreaRight" fmla="*/ 248760 w 28728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395280" y="2205000"/>
            <a:ext cx="8101080" cy="3911760"/>
            <a:chOff x="395280" y="2205000"/>
            <a:chExt cx="8101080" cy="3911760"/>
          </a:xfrm>
        </p:grpSpPr>
        <p:pic>
          <p:nvPicPr>
            <p:cNvPr id="252" name="Picture 4" descr="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395280" y="2205000"/>
              <a:ext cx="810108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5"/>
            <p:cNvSpPr/>
            <p:nvPr/>
          </p:nvSpPr>
          <p:spPr>
            <a:xfrm>
              <a:off x="6164280" y="4869000"/>
              <a:ext cx="36036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6218280" y="2565360"/>
              <a:ext cx="36036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eb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OT (Glutámico Oxalacetico Transaminasa) 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PT (Glutámico Pirúvico Transaminasa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635280" y="3213000"/>
            <a:ext cx="1728720" cy="3682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toplasmatic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versi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on muy importantes en el metabolismo proteico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los aminoácidos( excepto lisina y treonina) participan en reacciones de transaminación con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α-cetoá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iruvato                          alanina                             oxaloacetato                   aspartato                              α-cetoglutarato               glutam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Text Box 10"/>
          <p:cNvSpPr/>
          <p:nvPr/>
        </p:nvSpPr>
        <p:spPr>
          <a:xfrm>
            <a:off x="108000" y="5950080"/>
            <a:ext cx="892800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+  NAD(P)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GDH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421080" y="616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Line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 flipH="1">
            <a:off x="3347640" y="630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ón alost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 + )  ADP Y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 - ) 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GDH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AMINAC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AMINACION OXIDATIV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916360" y="6165720"/>
            <a:ext cx="43196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IMINACION DEL GRUPO AMIN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noáci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toglutar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toáci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lavoproteínas que producen desaminació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21800" cy="2073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"/>
          <p:cNvSpPr/>
          <p:nvPr/>
        </p:nvSpPr>
        <p:spPr>
          <a:xfrm>
            <a:off x="1187280" y="5661000"/>
            <a:ext cx="648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s flavoproteínas se encuentran en los  peroxisomas junto con las catalasa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D-Aminoácidos utilizan enzimas cuya coenzima es el F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067280" y="40053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ACTERISTICAS DE LAS PROTEINAS DE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5915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ger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tóxi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tricion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cu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buen s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alt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29440" y="5084640"/>
            <a:ext cx="4083840" cy="398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AC esenciales y digestabilida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211640" y="1844640"/>
            <a:ext cx="4680000" cy="2241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Proteínas de cereales (- lisina ó -triptofano y treonin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Semillas de oleaginosas y frutos secos (- metionina y lisina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. Leguminosas carecen de metionina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877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s proteínas animales son de mejor calidad que las de origen vegetal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ON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erina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-Serina                                    Piruvato  +  NH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-Treonina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-Treonin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butirato  +   NH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3203640" y="256536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3348000" y="4365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419640" y="216072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637080" y="3860640"/>
            <a:ext cx="720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619280" y="5661000"/>
            <a:ext cx="54738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 AMONIACO Ó  ION AMONIO ES TOXICO Y DEBE SER ELIMINA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XICIDAD DEL AMONI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NIVEL 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  : Se revierte la reacción de la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lutam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V="1">
            <a:off x="1547640" y="2205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4067280" y="2852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843280" y="3716280"/>
            <a:ext cx="3095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>
            <a:off x="3059280" y="3789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4067280" y="414972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492360" y="4724280"/>
            <a:ext cx="1511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ATP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3635280" y="47260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1332000" y="6165720"/>
            <a:ext cx="5041800" cy="40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normales: 5-10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 de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n sang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2" descr="fi20p14"/>
          <p:cNvPicPr/>
          <p:nvPr/>
        </p:nvPicPr>
        <p:blipFill>
          <a:blip r:embed="rId1"/>
          <a:srcRect l="31115" t="7074" r="31897" b="0"/>
          <a:stretch/>
        </p:blipFill>
        <p:spPr>
          <a:xfrm>
            <a:off x="3132000" y="1844640"/>
            <a:ext cx="3168720" cy="4745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324000" y="404640"/>
            <a:ext cx="8604000" cy="57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ANSPORTE Y DESTINO DEL AMONÍAC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5280" y="1197000"/>
            <a:ext cx="237492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ayoría de los tejid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348000" y="1258920"/>
            <a:ext cx="2016000" cy="366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659640" y="1341360"/>
            <a:ext cx="1800000" cy="366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úscul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fi20p14"/>
          <p:cNvPicPr/>
          <p:nvPr/>
        </p:nvPicPr>
        <p:blipFill>
          <a:blip r:embed="rId5"/>
          <a:srcRect l="0" t="7074" r="68073" b="0"/>
          <a:stretch/>
        </p:blipFill>
        <p:spPr>
          <a:xfrm>
            <a:off x="611280" y="1844640"/>
            <a:ext cx="2733480" cy="4745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fi20p14"/>
          <p:cNvPicPr/>
          <p:nvPr/>
        </p:nvPicPr>
        <p:blipFill>
          <a:blip r:embed="rId6"/>
          <a:srcRect l="70601" t="7074" r="0" b="0"/>
          <a:stretch/>
        </p:blipFill>
        <p:spPr>
          <a:xfrm>
            <a:off x="6300720" y="1844640"/>
            <a:ext cx="2517840" cy="474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3"/>
          <p:cNvSpPr/>
          <p:nvPr/>
        </p:nvSpPr>
        <p:spPr>
          <a:xfrm>
            <a:off x="5510160" y="5589720"/>
            <a:ext cx="1941480" cy="640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de la Glucosa Alan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1476360" y="2276640"/>
            <a:ext cx="14414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547640" y="4292640"/>
            <a:ext cx="14418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2124000" y="3284640"/>
            <a:ext cx="1224000" cy="580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3348000" y="2276640"/>
            <a:ext cx="122400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3276720" y="4292640"/>
            <a:ext cx="122400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6659640" y="2205000"/>
            <a:ext cx="180000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7380360" y="3213000"/>
            <a:ext cx="1763640" cy="580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Glutamato deshidrogen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5364000" y="5229360"/>
            <a:ext cx="93528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284720" y="5157720"/>
            <a:ext cx="10778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4211640" y="6165720"/>
            <a:ext cx="10796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7451640" y="6165720"/>
            <a:ext cx="10796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6372360" y="5157720"/>
            <a:ext cx="93492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7380360" y="5157720"/>
            <a:ext cx="10778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3851280" y="3213000"/>
            <a:ext cx="1441440" cy="337320"/>
          </a:xfrm>
          <a:prstGeom prst="rect">
            <a:avLst/>
          </a:prstGeom>
          <a:solidFill>
            <a:srgbClr val="f8c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Glutaminas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boxPhoto" descr="cap15-4"/>
          <p:cNvPicPr/>
          <p:nvPr/>
        </p:nvPicPr>
        <p:blipFill>
          <a:blip r:embed="rId1"/>
          <a:srcRect l="0" t="2397" r="0" b="0"/>
          <a:stretch/>
        </p:blipFill>
        <p:spPr>
          <a:xfrm>
            <a:off x="144360" y="714240"/>
            <a:ext cx="86425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40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glu"/>
          <p:cNvPicPr/>
          <p:nvPr/>
        </p:nvPicPr>
        <p:blipFill>
          <a:blip r:embed="rId1"/>
          <a:stretch/>
        </p:blipFill>
        <p:spPr>
          <a:xfrm>
            <a:off x="539640" y="2276640"/>
            <a:ext cx="2044800" cy="2663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gln"/>
          <p:cNvPicPr/>
          <p:nvPr/>
        </p:nvPicPr>
        <p:blipFill>
          <a:blip r:embed="rId2"/>
          <a:stretch/>
        </p:blipFill>
        <p:spPr>
          <a:xfrm>
            <a:off x="6588000" y="2205000"/>
            <a:ext cx="2022480" cy="2832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539640" y="4724280"/>
            <a:ext cx="201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588000" y="4724280"/>
            <a:ext cx="20163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211640" y="3645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276720" y="3500280"/>
            <a:ext cx="79200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2700360" y="3463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3635280" y="2708280"/>
            <a:ext cx="280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ADP  +  P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4427640" y="3141720"/>
            <a:ext cx="936360" cy="358560"/>
          </a:xfrm>
          <a:custGeom>
            <a:avLst/>
            <a:gdLst>
              <a:gd name="textAreaLeft" fmla="*/ 163800 w 936360"/>
              <a:gd name="textAreaRight" fmla="*/ 678960 w 93636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b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4211640" y="3860640"/>
            <a:ext cx="2233440" cy="36828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lutamina sintet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143160" y="5786280"/>
            <a:ext cx="371952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gln"/>
          <p:cNvPicPr/>
          <p:nvPr/>
        </p:nvPicPr>
        <p:blipFill>
          <a:blip r:embed="rId1"/>
          <a:stretch/>
        </p:blipFill>
        <p:spPr>
          <a:xfrm>
            <a:off x="468360" y="1844640"/>
            <a:ext cx="1851120" cy="25923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539640" y="4221000"/>
            <a:ext cx="1728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glu"/>
          <p:cNvPicPr/>
          <p:nvPr/>
        </p:nvPicPr>
        <p:blipFill>
          <a:blip r:embed="rId3"/>
          <a:stretch/>
        </p:blipFill>
        <p:spPr>
          <a:xfrm>
            <a:off x="5724360" y="2276640"/>
            <a:ext cx="1879920" cy="2447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5796000" y="4437000"/>
            <a:ext cx="1871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3635280" y="3573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lutaminas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8101080" y="3357720"/>
            <a:ext cx="792000" cy="440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24720" y="332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248436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843280" y="3284640"/>
            <a:ext cx="79200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1187280" y="5589720"/>
            <a:ext cx="547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Enzima Mitocondrial.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y activa en hígado, riñón, branquias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IMINACION DEL AMONIA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ONOTELICOS: Especies acu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 peces ós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RICOTELICOS: Aves y rep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REOTELICOS: Animales terr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08720" y="2205000"/>
            <a:ext cx="7923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659640" y="3429000"/>
            <a:ext cx="1657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do úric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7164360" y="4292640"/>
            <a:ext cx="792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6516720" y="220500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>
            <a:off x="5796000" y="35002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0"/>
          <p:cNvSpPr/>
          <p:nvPr/>
        </p:nvSpPr>
        <p:spPr>
          <a:xfrm>
            <a:off x="6227640" y="4365720"/>
            <a:ext cx="792360" cy="21564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4"/>
          <p:cNvGraphicFramePr/>
          <p:nvPr/>
        </p:nvGraphicFramePr>
        <p:xfrm>
          <a:off x="250920" y="115920"/>
          <a:ext cx="889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89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5"/>
          <p:cNvSpPr/>
          <p:nvPr/>
        </p:nvSpPr>
        <p:spPr>
          <a:xfrm>
            <a:off x="478800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7885080" y="6093000"/>
            <a:ext cx="863640" cy="76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A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6877080" y="5734080"/>
            <a:ext cx="863640" cy="766800"/>
            <a:chOff x="6877080" y="5734080"/>
            <a:chExt cx="863640" cy="766800"/>
          </a:xfrm>
        </p:grpSpPr>
        <p:sp>
          <p:nvSpPr>
            <p:cNvPr id="382" name="Freeform 7"/>
            <p:cNvSpPr/>
            <p:nvPr/>
          </p:nvSpPr>
          <p:spPr>
            <a:xfrm>
              <a:off x="7296120" y="5734080"/>
              <a:ext cx="444600" cy="76680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77080" y="6165720"/>
              <a:ext cx="503280" cy="166680"/>
            </a:xfrm>
            <a:prstGeom prst="pi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3"/>
          <p:cNvSpPr/>
          <p:nvPr/>
        </p:nvSpPr>
        <p:spPr>
          <a:xfrm>
            <a:off x="1258920" y="558972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4"/>
          <p:cNvSpPr/>
          <p:nvPr/>
        </p:nvSpPr>
        <p:spPr>
          <a:xfrm>
            <a:off x="3406680" y="-104760"/>
            <a:ext cx="5656320" cy="432288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5651640" y="170028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6"/>
          <p:cNvSpPr/>
          <p:nvPr/>
        </p:nvSpPr>
        <p:spPr>
          <a:xfrm>
            <a:off x="7093080" y="3789360"/>
            <a:ext cx="287280" cy="360360"/>
          </a:xfrm>
          <a:prstGeom prst="ellipse">
            <a:avLst/>
          </a:prstGeom>
          <a:solidFill>
            <a:srgbClr val="cd1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5148360" y="1700280"/>
            <a:ext cx="107928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H="1">
            <a:off x="7164000" y="3716280"/>
            <a:ext cx="144360" cy="72072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9"/>
          <p:cNvSpPr/>
          <p:nvPr/>
        </p:nvSpPr>
        <p:spPr>
          <a:xfrm>
            <a:off x="7236000" y="14436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TOC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0"/>
          <p:cNvSpPr/>
          <p:nvPr/>
        </p:nvSpPr>
        <p:spPr>
          <a:xfrm>
            <a:off x="250920" y="1989000"/>
            <a:ext cx="1296720" cy="1052640"/>
          </a:xfrm>
          <a:prstGeom prst="ellipse">
            <a:avLst/>
          </a:prstGeom>
          <a:solidFill>
            <a:srgbClr val="f8c7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a corto plaz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ción a largo plaz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rbamil fosfato sintetasa I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N-Acetil glutamat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Biosíntesis de las enzimas del cicl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Aumento proteínas de la die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anición 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6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7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VENTAJAS DE ALGUNAS PROTEINAS DE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1128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olerancia al glu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1280" y="51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lergeno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564000" y="4869000"/>
            <a:ext cx="5184720" cy="1191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rutos secos, ciertas frutas,   legumbres, huevos, crustáceos, pescado, algunas  semill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5076720" y="2276640"/>
            <a:ext cx="1943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GLIAD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ación de Carbamoil fosfato:   2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 de Aspartato: 1 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AMP  +  PPi                 2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EN TOTAL: 4 Uniones ricas en energía  ó 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4427640" y="321300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164360" y="3213000"/>
            <a:ext cx="792360" cy="144720"/>
          </a:xfrm>
          <a:custGeom>
            <a:avLst/>
            <a:gdLst>
              <a:gd name="textAreaLeft" fmla="*/ 138600 w 792360"/>
              <a:gd name="textAreaRight" fmla="*/ 574560 w 792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9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2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écula pequeña, sin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óx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50% de su peso es nitró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mite la eliminación de 2 productos de desecho: CO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es Normales: 25-30 grs. de urea di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9"/>
          <p:cNvSpPr/>
          <p:nvPr/>
        </p:nvSpPr>
        <p:spPr>
          <a:xfrm>
            <a:off x="0" y="1557360"/>
            <a:ext cx="4716360" cy="2592360"/>
          </a:xfrm>
          <a:prstGeom prst="rect">
            <a:avLst/>
          </a:prstGeom>
          <a:solidFill>
            <a:srgbClr val="ccffff">
              <a:alpha val="22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fi20p13"/>
          <p:cNvPicPr/>
          <p:nvPr/>
        </p:nvPicPr>
        <p:blipFill>
          <a:blip r:embed="rId1"/>
          <a:srcRect l="0" t="72700" r="0" b="0"/>
          <a:stretch/>
        </p:blipFill>
        <p:spPr>
          <a:xfrm>
            <a:off x="0" y="1557360"/>
            <a:ext cx="8893080" cy="28717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2268360" y="1484280"/>
            <a:ext cx="1727280" cy="12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333360"/>
            <a:ext cx="7705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conexión entre el Ciclo de Krebs y el Ciclo de la Ure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443640" y="1844640"/>
            <a:ext cx="1800360" cy="33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1620720" y="4005360"/>
            <a:ext cx="86364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4140360" y="4149720"/>
            <a:ext cx="122364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364000" y="2852640"/>
            <a:ext cx="108108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250920" y="2827440"/>
            <a:ext cx="108108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6156360" y="371628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5796000" y="3213000"/>
            <a:ext cx="1440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7"/>
          <p:cNvSpPr/>
          <p:nvPr/>
        </p:nvSpPr>
        <p:spPr>
          <a:xfrm>
            <a:off x="5580000" y="3933720"/>
            <a:ext cx="64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7524720" y="350028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GDH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268360" y="2060640"/>
            <a:ext cx="1730520" cy="366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443640" y="2276640"/>
            <a:ext cx="2376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LA URE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6084720" y="2349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CIONES DE LAS 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talíticas (enzi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ínas funcionales: Hb, mioglobina, mios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ctoras (querat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les (colágeno o elast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AMBIO DE LAS PROTE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D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TRUCCION POR OXID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SER UTILIZADAS COMO FUENTE DE ENE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S PATOLOGICOS O DE ACCIDENTOLOGIA (Quemaduras, diarreas, hemorrag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Rectangle 4"/>
          <p:cNvGrpSpPr/>
          <p:nvPr/>
        </p:nvGrpSpPr>
        <p:grpSpPr>
          <a:xfrm>
            <a:off x="353880" y="706320"/>
            <a:ext cx="8240760" cy="1152720"/>
            <a:chOff x="353880" y="706320"/>
            <a:chExt cx="8240760" cy="1152720"/>
          </a:xfrm>
        </p:grpSpPr>
        <p:pic>
          <p:nvPicPr>
            <p:cNvPr id="66" name="Rectangle 4" descr=""/>
            <p:cNvPicPr/>
            <p:nvPr/>
          </p:nvPicPr>
          <p:blipFill>
            <a:blip r:embed="rId1"/>
            <a:stretch/>
          </p:blipFill>
          <p:spPr>
            <a:xfrm>
              <a:off x="353880" y="706320"/>
              <a:ext cx="82407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20" y="714240"/>
              <a:ext cx="823284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ESENCIALES Y NO ESENCIALES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8"/>
          <p:cNvSpPr/>
          <p:nvPr/>
        </p:nvSpPr>
        <p:spPr>
          <a:xfrm>
            <a:off x="61920" y="2268720"/>
            <a:ext cx="901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minoácidos  esenci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minoácidos no esen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ucina             Treonina           Alanina             Glutam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oleucina          Triptofano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paragina       Glic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ina                 Valina              Ac.aspártico      Prol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ionina           Arginina          Cisteína            Ser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nilalanina       Histidina          Glutamato         Tirosin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5"/>
          <p:cNvSpPr/>
          <p:nvPr/>
        </p:nvSpPr>
        <p:spPr>
          <a:xfrm>
            <a:off x="324000" y="82800"/>
            <a:ext cx="8820000" cy="150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exóg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endóg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aprox.70 g/ día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(aprox. 140 g/ día)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ínas de la diet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ínas tisulares (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zimas,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icas,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-31680" y="40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611280" y="1954080"/>
            <a:ext cx="8137440" cy="457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gestión y absorción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Degradació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9"/>
          <p:cNvSpPr/>
          <p:nvPr/>
        </p:nvSpPr>
        <p:spPr>
          <a:xfrm>
            <a:off x="2050920" y="2419200"/>
            <a:ext cx="4537080" cy="793800"/>
          </a:xfrm>
          <a:custGeom>
            <a:avLst/>
            <a:gdLst>
              <a:gd name="textAreaLeft" fmla="*/ 1035720 w 4537080"/>
              <a:gd name="textAreaRight" fmla="*/ 3501360 w 4537080"/>
              <a:gd name="textAreaTop" fmla="*/ 181080 h 793800"/>
              <a:gd name="textAreaBottom" fmla="*/ 612720 h 79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df551"/>
          </a:solidFill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3"/>
          <p:cNvSpPr/>
          <p:nvPr/>
        </p:nvSpPr>
        <p:spPr>
          <a:xfrm flipH="1" rot="16200000">
            <a:off x="6371280" y="2419920"/>
            <a:ext cx="459000" cy="457200"/>
          </a:xfrm>
          <a:prstGeom prst="pi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4"/>
          <p:cNvSpPr/>
          <p:nvPr/>
        </p:nvSpPr>
        <p:spPr>
          <a:xfrm rot="5400000">
            <a:off x="1475640" y="2421720"/>
            <a:ext cx="458640" cy="457200"/>
          </a:xfrm>
          <a:prstGeom prst="pi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9"/>
          <p:cNvGrpSpPr/>
          <p:nvPr/>
        </p:nvGrpSpPr>
        <p:grpSpPr>
          <a:xfrm>
            <a:off x="1763640" y="3213000"/>
            <a:ext cx="5686560" cy="673560"/>
            <a:chOff x="1763640" y="3213000"/>
            <a:chExt cx="5686560" cy="673560"/>
          </a:xfrm>
        </p:grpSpPr>
        <p:sp>
          <p:nvSpPr>
            <p:cNvPr id="79" name="Line 57"/>
            <p:cNvSpPr/>
            <p:nvPr/>
          </p:nvSpPr>
          <p:spPr>
            <a:xfrm>
              <a:off x="4427640" y="3213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0"/>
            <p:cNvSpPr/>
            <p:nvPr/>
          </p:nvSpPr>
          <p:spPr>
            <a:xfrm>
              <a:off x="1763640" y="3429000"/>
              <a:ext cx="5686560" cy="457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ransaminación y/ó Desaminación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62"/>
          <p:cNvSpPr/>
          <p:nvPr/>
        </p:nvSpPr>
        <p:spPr>
          <a:xfrm flipH="1">
            <a:off x="1186920" y="537372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2700360" y="5373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78"/>
          <p:cNvGrpSpPr/>
          <p:nvPr/>
        </p:nvGrpSpPr>
        <p:grpSpPr>
          <a:xfrm>
            <a:off x="468360" y="3860640"/>
            <a:ext cx="7921440" cy="992520"/>
            <a:chOff x="468360" y="3860640"/>
            <a:chExt cx="7921440" cy="992520"/>
          </a:xfrm>
        </p:grpSpPr>
        <p:sp>
          <p:nvSpPr>
            <p:cNvPr id="84" name="AutoShape 58"/>
            <p:cNvSpPr/>
            <p:nvPr/>
          </p:nvSpPr>
          <p:spPr>
            <a:xfrm rot="5400000">
              <a:off x="4637160" y="3728880"/>
              <a:ext cx="457200" cy="720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9"/>
            <p:cNvSpPr/>
            <p:nvPr/>
          </p:nvSpPr>
          <p:spPr>
            <a:xfrm flipH="1" rot="16200000">
              <a:off x="3914280" y="3727800"/>
              <a:ext cx="457200" cy="722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3"/>
            <p:cNvSpPr/>
            <p:nvPr/>
          </p:nvSpPr>
          <p:spPr>
            <a:xfrm>
              <a:off x="468360" y="4441320"/>
              <a:ext cx="7921440" cy="411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egradación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iosíntesis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4"/>
          <p:cNvSpPr/>
          <p:nvPr/>
        </p:nvSpPr>
        <p:spPr>
          <a:xfrm>
            <a:off x="-281160" y="33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-1800" y="5805360"/>
            <a:ext cx="396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α - cetoácidos  Amoníaco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8"/>
          <p:cNvSpPr/>
          <p:nvPr/>
        </p:nvSpPr>
        <p:spPr>
          <a:xfrm>
            <a:off x="4572000" y="4869000"/>
            <a:ext cx="424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Proteín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0"/>
          <p:cNvSpPr/>
          <p:nvPr/>
        </p:nvSpPr>
        <p:spPr>
          <a:xfrm>
            <a:off x="4427640" y="5300640"/>
            <a:ext cx="429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Aminoácidos No esencial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1"/>
          <p:cNvSpPr/>
          <p:nvPr/>
        </p:nvSpPr>
        <p:spPr>
          <a:xfrm>
            <a:off x="4204080" y="5661000"/>
            <a:ext cx="4941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Constituyentes nitrogenados no</a:t>
            </a: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2"/>
          <p:cNvSpPr/>
          <p:nvPr/>
        </p:nvSpPr>
        <p:spPr>
          <a:xfrm>
            <a:off x="4404600" y="6021360"/>
            <a:ext cx="474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oteicos: purinas, pirimidina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3"/>
          <p:cNvSpPr/>
          <p:nvPr/>
        </p:nvSpPr>
        <p:spPr>
          <a:xfrm>
            <a:off x="4427640" y="6400800"/>
            <a:ext cx="172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orfirinas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4"/>
          <p:cNvSpPr/>
          <p:nvPr/>
        </p:nvSpPr>
        <p:spPr>
          <a:xfrm>
            <a:off x="6010560" y="6400800"/>
            <a:ext cx="238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ácidos biliares</a:t>
            </a: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2"/>
          <p:cNvSpPr/>
          <p:nvPr/>
        </p:nvSpPr>
        <p:spPr>
          <a:xfrm>
            <a:off x="468360" y="404640"/>
            <a:ext cx="2808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α - cetoácid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843280" y="1700280"/>
            <a:ext cx="1728720" cy="43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50920" y="1773360"/>
            <a:ext cx="20174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276720" y="3068640"/>
            <a:ext cx="201600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erpos cetónic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724360" y="476280"/>
            <a:ext cx="223236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moníac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403280" y="5877000"/>
            <a:ext cx="3456000" cy="482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 – AT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403280" y="4437000"/>
            <a:ext cx="280836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73080" y="3213000"/>
            <a:ext cx="212256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etil Co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6300720" y="3789360"/>
            <a:ext cx="1908360" cy="947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reción ren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6659640" y="2060640"/>
            <a:ext cx="136836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2916360" y="5084640"/>
            <a:ext cx="0" cy="648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9933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9933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Irma</cp:lastModifiedBy>
  <dcterms:modified xsi:type="dcterms:W3CDTF">2013-10-09T12:38:04Z</dcterms:modified>
  <cp:revision>157</cp:revision>
  <dc:subject/>
  <dc:title>Diapositiva 1</dc:title>
</cp:coreProperties>
</file>